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4ED-94BE-4411-8F82-D1A2506C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62C-0CB4-4C93-8F83-C4ACA2CE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5C13-3E00-471B-8E15-25E0DCC4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6A6-3D74-4B83-899A-5EAFC0F6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9DA-09E0-40FE-BD21-4CD2544A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369-AB4E-41C4-839E-A608BF90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582-A640-46C9-99B9-185118E5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70C-C4F5-4AEA-A5C5-535E3A82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E6B-392F-4BB0-8255-3BC9DE60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A8E-D13F-479B-887C-4F713928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8CF-60CA-471D-A526-4BEB040B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9D2-9F15-4D61-825B-6EC09003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A9F2-209D-4103-A4FC-9CA24A59B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915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ированная энциклопед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ассказу 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П. Чехо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оны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Содержимое 5" descr="Чехов.jpg"/>
          <p:cNvPicPr/>
          <p:nvPr/>
        </p:nvPicPr>
        <p:blipFill>
          <a:blip r:embed="rId1"/>
          <a:stretch/>
        </p:blipFill>
        <p:spPr>
          <a:xfrm>
            <a:off x="4859280" y="1557360"/>
            <a:ext cx="3898800" cy="30002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5143320"/>
            <a:ext cx="79725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 учащих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“Гимназия №76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1154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4" descr="Ионыч.jpg"/>
          <p:cNvPicPr/>
          <p:nvPr/>
        </p:nvPicPr>
        <p:blipFill>
          <a:blip r:embed="rId1"/>
          <a:stretch/>
        </p:blipFill>
        <p:spPr>
          <a:xfrm>
            <a:off x="6500880" y="4305240"/>
            <a:ext cx="1928880" cy="2136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1867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предстоит принять участие в сетевом проекте «Иллюстрированная энциклопедия  к рассказу  А.П. Чехова “Ионыч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нуж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рать себе раздел для работы, указать на соответствующем слайде свои фамилию, имя и клас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тать текст рассказ на предмет темы, выписать необходимые цитаты (их в тексте, как правило, 2-3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цитат и их интерпретации написать текст вашей статьи для энциклопедии, при необходимости в текст можно включить и сами цитаты. Объем текста - 4-5 предлож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ать тематически близкую иллюстра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вой раздел к защи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7160" y="272520"/>
            <a:ext cx="2857680" cy="15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р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57880" y="928800"/>
            <a:ext cx="3214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4240" y="1500120"/>
            <a:ext cx="3571920" cy="27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стать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85840" y="4859280"/>
            <a:ext cx="42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 учащегося , выполнившего задание по этой рубр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85840" y="571680"/>
            <a:ext cx="4286160" cy="4000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4929120" y="571680"/>
            <a:ext cx="3643560" cy="5286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285840" y="4786200"/>
            <a:ext cx="4286160" cy="16430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404352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3 рубля.jpg"/>
          <p:cNvPicPr/>
          <p:nvPr/>
        </p:nvPicPr>
        <p:blipFill>
          <a:blip r:embed="rId1"/>
          <a:stretch/>
        </p:blipFill>
        <p:spPr>
          <a:xfrm>
            <a:off x="5214960" y="928800"/>
            <a:ext cx="3568680" cy="2428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45435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ыло у него еще одно развлечение, в которое он втянулся незаметно, мало-помалу, это — по вечерам вынимать из карманов бумажки, добытые практикой, и, случалось, бумажек — желтых и зеленых, от которых пахло духами, и уксусом, и ладаном, и ворванью, — было понапихано во все карманы рублей на семьдесят…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рцев вспомнил про бумажки, которые он по вечерам вынимал из карманов с таким удовольствием, и огонек в душе погас.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F:\материал 15 февраля\деньги\1 рубль.jpg"/>
          <p:cNvPicPr/>
          <p:nvPr/>
        </p:nvPicPr>
        <p:blipFill>
          <a:blip r:embed="rId2"/>
          <a:stretch/>
        </p:blipFill>
        <p:spPr>
          <a:xfrm>
            <a:off x="5143680" y="3643200"/>
            <a:ext cx="3571560" cy="201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 flipV="1" rot="10800000">
            <a:off x="642960" y="576648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, имя,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4829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игнации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еволюционной Росси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856800"/>
            <a:ext cx="52862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а ассигнаци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обиходе бумажные деньги часто 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вались по расцветке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                                      Достоин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ёлтенькая                         1 рубль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ёненькая                         3 рубл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нькая                            5 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енькая                        10 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енькая                             25 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ужная                              100 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3542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нькая                             200 рубле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F:\материал 15 февраля\деньги\1 рубль.jpg"/>
          <p:cNvPicPr/>
          <p:nvPr/>
        </p:nvPicPr>
        <p:blipFill>
          <a:blip r:embed="rId1"/>
          <a:stretch/>
        </p:blipFill>
        <p:spPr>
          <a:xfrm>
            <a:off x="6215040" y="714240"/>
            <a:ext cx="2571840" cy="154332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 flipV="1" rot="10800000">
            <a:off x="642960" y="57142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 , имя,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F:\материал 15 февраля\деньги\25_rublej_1769_goda..jpg"/>
          <p:cNvPicPr/>
          <p:nvPr/>
        </p:nvPicPr>
        <p:blipFill>
          <a:blip r:embed="rId2"/>
          <a:stretch/>
        </p:blipFill>
        <p:spPr>
          <a:xfrm>
            <a:off x="7072200" y="2357280"/>
            <a:ext cx="1890720" cy="248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F:\материал 15 февраля\деньги\50 рублей.jpg"/>
          <p:cNvPicPr/>
          <p:nvPr/>
        </p:nvPicPr>
        <p:blipFill>
          <a:blip r:embed="rId3"/>
          <a:stretch/>
        </p:blipFill>
        <p:spPr>
          <a:xfrm>
            <a:off x="6429240" y="4786200"/>
            <a:ext cx="217980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F:\материал 15 февраля\деньги\RussiaPA18-10Rubles-1819-donatedos_f.jpg"/>
          <p:cNvPicPr/>
          <p:nvPr/>
        </p:nvPicPr>
        <p:blipFill>
          <a:blip r:embed="rId4"/>
          <a:stretch/>
        </p:blipFill>
        <p:spPr>
          <a:xfrm>
            <a:off x="5072040" y="2071800"/>
            <a:ext cx="2214720" cy="160488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3 рубля.jpg"/>
          <p:cNvPicPr/>
          <p:nvPr/>
        </p:nvPicPr>
        <p:blipFill>
          <a:blip r:embed="rId5"/>
          <a:stretch/>
        </p:blipFill>
        <p:spPr>
          <a:xfrm>
            <a:off x="5072040" y="3929040"/>
            <a:ext cx="2324160" cy="15829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0"/>
          <p:cNvSpPr/>
          <p:nvPr/>
        </p:nvSpPr>
        <p:spPr>
          <a:xfrm>
            <a:off x="357120" y="5572080"/>
            <a:ext cx="5929560" cy="1000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рубр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999720"/>
            <a:ext cx="8115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ческие наз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за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ме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ревши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ые наз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ле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учреж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а и напит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 зан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Туркины.jpg"/>
          <p:cNvPicPr/>
          <p:nvPr/>
        </p:nvPicPr>
        <p:blipFill>
          <a:blip r:embed="rId1"/>
          <a:stretch/>
        </p:blipFill>
        <p:spPr>
          <a:xfrm>
            <a:off x="6429240" y="4143240"/>
            <a:ext cx="2438640" cy="1928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Lily\Desktop\15.02.23 семинар\деньги\Ионыч коляска.jpg"/>
          <p:cNvPicPr/>
          <p:nvPr/>
        </p:nvPicPr>
        <p:blipFill>
          <a:blip r:embed="rId2"/>
          <a:stretch/>
        </p:blipFill>
        <p:spPr>
          <a:xfrm>
            <a:off x="6643800" y="1000080"/>
            <a:ext cx="215244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Lily\Desktop\15.02.23 семинар\деньги\Дялиж.jpg"/>
          <p:cNvPicPr/>
          <p:nvPr/>
        </p:nvPicPr>
        <p:blipFill>
          <a:blip r:embed="rId3"/>
          <a:stretch/>
        </p:blipFill>
        <p:spPr>
          <a:xfrm>
            <a:off x="285840" y="14288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Users\Lily\Desktop\15.02.23 семинар\деньги\Старц.jpg"/>
          <p:cNvPicPr/>
          <p:nvPr/>
        </p:nvPicPr>
        <p:blipFill>
          <a:blip r:embed="rId4"/>
          <a:stretch/>
        </p:blipFill>
        <p:spPr>
          <a:xfrm>
            <a:off x="571680" y="3786120"/>
            <a:ext cx="1761840" cy="2428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9"/>
          <p:cNvSpPr/>
          <p:nvPr/>
        </p:nvSpPr>
        <p:spPr>
          <a:xfrm>
            <a:off x="785880" y="142920"/>
            <a:ext cx="692928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00040" y="500040"/>
          <a:ext cx="7858080" cy="6283440"/>
        </p:xfrm>
        <a:graphic>
          <a:graphicData uri="http://schemas.openxmlformats.org/drawingml/2006/table">
            <a:tbl>
              <a:tblPr/>
              <a:tblGrid>
                <a:gridCol w="411120"/>
                <a:gridCol w="1646280"/>
                <a:gridCol w="4319640"/>
                <a:gridCol w="148104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ллы(0-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ребованность результатов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стети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ение, наличие иллюстрации, аккуратность, соблюдение норм оформления презент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держ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тивность, смысловая емкость проекта, соответствие иллюстрации рубри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ие зад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ект построен вокруг основных пробл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уч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ношение изученного  и представленного материала с изучаемой проблемой, использование конкретных научных методов, терминов, возможность их использов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етевого взаимо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ивается сетевая активность участников в ходе проекта в ходе проекта, обсуждения, оцен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ая знач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петентности, полученные в ходе проекта могут использоваться участниками в реальной жизн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-2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 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– 1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 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зовы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-11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 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зкий 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6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метка 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18676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ритерии  оценивания работы над проекто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5T01:18:23Z</dcterms:created>
  <dc:creator>Lily</dc:creator>
  <dc:description/>
  <dc:language>en-US</dc:language>
  <cp:lastModifiedBy>Антон</cp:lastModifiedBy>
  <dcterms:modified xsi:type="dcterms:W3CDTF">2023-02-15T10:35:11Z</dcterms:modified>
  <cp:revision>27</cp:revision>
  <dc:subject/>
  <dc:title>Иллюстрированная энциклопедия  к рассказам  А.П. Чехова   (по материалам рассказов  А.П. Чехова)</dc:title>
</cp:coreProperties>
</file>